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6DC-909A-4156-9E7A-98F75912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701-FEFA-4D26-8680-2D61104F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B890C-9AE2-4262-BEE9-C3B032BD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72434-7D36-4ED9-80CB-173EDCA3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698A6-E19D-4B40-BBD1-1FCB5DC4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457C5-4401-4005-8308-9E21899A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BBCB9-9CA8-419F-9ED1-E446190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BCC69-EF52-41EA-A4E8-8C5F08B2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68724-6B8D-42A4-A56A-BB602137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38352-7A79-4D08-A7AF-DC7E3D49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8ABC5-20E0-4E64-8F15-1C8B625D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281D2-F4F8-49B2-8EA3-829D70B4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EF9-2A12-44EB-A73C-E3D610EE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98094-9165-4EDB-A705-69EE17AA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38199-2DBA-457E-BC2E-C89E11DD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EE211-F947-406F-97C0-6FD9C889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9B8F4-C7F2-419E-A8A6-28038349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6B80C-3245-475B-B80D-552A5177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61CE7-F18D-4D5A-A133-3302800E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0B2F1-C3A6-497C-A368-26B32530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C33AA-DDCB-4317-A149-D71E571F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81292-3C0A-40B3-AB16-BB557840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90BAC-FB71-47E3-9EF1-2153EC8D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521-3E30-4381-A626-274EC2D0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C73E3-049B-4544-8FF1-6B7F590C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55CE9-1F45-41B3-B1D9-5C3E9F67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A320A-B7E9-44D9-88B0-B553AFC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45D41-D394-4CB8-A052-DB9795A3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A500E-4B71-4CBC-B38B-CDB4FFBC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FFFD2-34E7-4BFD-BDF7-6034189B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1503B-8615-40E0-AB89-F1F0EC98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39876-BA6B-4B90-AC58-FA658986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E006E-7D37-465E-9375-CC629BD1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743A8-BED0-4479-A399-044F2E71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3131-83A1-4A80-84D2-A641CBCA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E8FD9-8742-4B8A-B88F-8D4655AA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12B7C-A88E-4AD0-9256-2AF7BFBD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98E1A-601B-41FA-965C-A510DC91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C6262-8295-4563-9B70-6A126D44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0F08A-26E8-4F86-BCD9-048666D1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E05D0-510E-4C02-9068-347815EB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AF50A-3520-487B-9040-AAD1AD3D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235F2-58F1-4B25-89DB-26A34CDE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DD7CD-FEEE-4D97-A7C2-C1E0F73A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ADD1A-E62F-4570-A3EA-ED25BAE3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CA16-CADE-4B55-8758-B13697CC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18990-740F-4F7B-8A51-CCD2EF20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255A6-FB81-4979-8061-6E64DC51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4CC88-A217-4941-990D-BB4FED9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58A92-AF67-4DA7-A0EF-1FEC2E55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DB0B9-3899-4101-9ECA-7C2B1625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18681-4051-48F2-9741-0BA3AA48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52ACC-14A1-4988-8C13-4926A0AD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4372B-C825-4B2B-85C2-376D7CCB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AC90F-2531-4297-B0F6-316BAB2B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5F8E8-0B24-4F8C-932C-F2C08807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A95C-9815-479F-A581-DCAD6005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002FF-95B1-4C7E-BF00-B5694D4E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1ABF8-7AAC-47F5-AEC5-C82E00DB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336A9-F1FF-43FC-AF4E-0072E1CB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90C26-3B62-4BAB-9957-7B7AD607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6673B-5ABB-45C1-A81A-48348388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9CABE-E595-4D13-9435-08F9D066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BB764-40DE-4FB4-A35F-511E5E1B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123B5-8F43-4F63-B91F-366A9179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9ACC8-5311-463A-B0DD-027A78BF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E1E2C-5113-4CB9-987C-CFEE7730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E8EE-CABF-48C3-A350-856D867F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70E70-34FE-42AB-AFC4-D5E69878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56674-9440-44A3-940B-D3CAF41B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6DBAA-3A73-4431-8AF9-1BCFA0DA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F37A2-8FA0-486B-B72E-804FDB80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776CE-234D-43F1-805F-BAD2CDC8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26E5F-CFEC-413D-A796-ABF8D809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719F7-31E2-45F9-9218-80E46C7F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A41F9-DCAE-48F8-8E19-E270BF70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658F0-139D-4D91-9218-3C9DC208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6E798-659D-423C-A1CC-B07993B1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4725-BF1E-4F08-BFCF-614CFAA4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96283-C6F5-4964-A184-801F945A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E861C-A100-4EC7-A7B4-63DBC198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A0A3A-E6D7-4363-9ABB-5745836D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1E2ED-2637-43C4-8D74-01B24924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D60FE9-4FB1-4B00-BADB-D49EBF83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8DC9A-DA6D-4DA6-BB4C-FE67851B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83E6B-53EA-4AFF-9980-BA905CFB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513C5-C3F1-496D-8055-3E0B73B2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FF2F4-A32D-4A80-9550-D55661A2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14F7F-5DB6-4BD2-874A-9D4806E0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532C-4546-453F-8A9A-E52E197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AFCB8-0A99-42F8-83A6-EAFE451E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ABC33-1965-4FF5-8A73-92B30B2B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64B40-EBF2-4A6B-B9C8-6AF5819C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4044C-9822-4420-BFE5-4E83BAFA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96DEF-1594-4A52-9326-4FE01391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A2858-C6A6-495D-843F-01CC0A86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44CE0-B935-4DFC-934B-8BE7036F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45E6B-B2BF-4A60-86B3-A557647F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68D6B-E7ED-4E9D-9AD0-136D3ABC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5786E2-BB2A-4709-B393-3EC30CE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5C23-4885-4825-A089-F53725E5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E28D7-2333-452D-A6D4-AED2BE33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975A4-15B0-4B0E-B951-3E17F7A4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667B7-B450-4C87-8625-CCC1F6D6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60DD8-4A9B-4752-8D08-4BA9BB10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E617CC-7AD3-40C6-8876-49C41F03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AB792-C7B5-4507-975A-60EB07DA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E8637-16C3-4398-807E-ED704005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E501D-8B0A-4822-9EED-41F442DB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AF9CA-BA8A-4963-89A4-AD0EF657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ADEDDF-2362-48B0-A13A-D157E29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285-76A4-4C5D-AAD7-346FBDC0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E07F-94BB-4EF9-80E8-8161BDE0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89668-2EE3-42FA-9E92-8A97EB02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DBB06-B0B6-4EF7-BA4E-9130C730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F4037E-6C50-41E5-A681-AA0B410C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97A27-E4F7-4C1C-9C65-06382B50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EE17E4-7B64-4074-A98B-AE15510F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7AA3DC-B6F7-4585-9F6E-99300D84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AF47E-D402-4CB6-8935-8320F273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AEB3FF-A6AD-4AED-A733-B76B2479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0A8954-5E1B-4467-BFB2-20D6D9DB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A2C2B2-AAE9-4BE1-9287-F4AFE9F8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12C2-6629-4335-A21B-E4E9EF67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9F219-AB0A-4B65-8AC2-B8BDDB5D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5C3326-CC53-4DED-9221-C709A7B7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F738F-A97C-4992-AD9A-29D305FE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E14D82-80FC-439B-80B6-D39A760C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90CBC-AC7B-46F3-B181-FD1E40F1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68482-8DE4-48B0-895D-708DC5D4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F91A5-1F4C-4FE9-BDD7-C1AAB75A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C810B1-A2B1-466A-B4D1-5E9184A1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4BD52-5E1A-4CAE-9900-18D95687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8329C7-3EB0-4D7C-8044-AEE58705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1EB7-8621-49EC-9DB6-152CEE99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71D963-2408-4709-BB9E-EF1B59BC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0D030-8B92-41C6-923A-862D3476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DADDBE-0974-428D-86A6-FC69B9FB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125EFF-6499-476B-A73B-BEB838C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3C265-85B8-4199-8624-7D8EB90F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06877-3BBD-4891-8F43-906C5105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2D6C8-8DD8-49FB-985A-5111E84D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DD003C-9E32-4AEA-B255-363CD5F0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9159F5-D5FD-4256-A344-1C0980F0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565D3A-E296-482E-9997-E4D94247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A45F-483A-4AEE-B935-5FF7139E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FE49D5-9DA9-45C8-A842-4544C906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E5A33D-26F5-4A7A-883A-063D1675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CA4FD-E696-4D24-9A4F-234D6AFB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9556FE-8B4A-4DE4-9685-B63E4072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209BE-6F1A-4F69-B892-6D8601FB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7331A8-5B79-4D55-BC07-38F6D0BD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013AC2-8E05-4833-81E8-AA7B141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D11423-3463-4F48-80F8-AE61F4BF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76F2D3-46FA-4DD7-989E-BD7CA5E0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A7F703-D865-46DD-A25F-A6AA0914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88BE-8E9F-4B3A-A06C-D936909C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9E656-2EC8-42BB-8C43-5850DD6A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153645-8E8E-4C2B-AFC0-282111E1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B796D8-20E1-4EDD-ABA7-7165DE07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5B28FA-387E-486D-B3F0-F12237FD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7F9155-C15D-4218-9B0D-0F6B063F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5EEBD6-985B-462E-95FD-2B09EEE5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A950B1-6B98-41C7-89D5-6834F1DD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500373-C21A-4007-9316-6954363B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1033DB-57FB-4DA1-90E9-13C8F399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1B557F-1560-4517-B3D7-994C7A7A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5B628-F374-4AEE-9927-C6235A1D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276E29-E19E-4BCF-9529-C3D89D29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83984B-0EDF-4D6B-8E7B-BD659600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42E75-73C2-4BDF-BDDB-05FC6CCD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01C30-015E-461E-BED9-D0760DBC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80C1-38C0-4678-B605-55E402F3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73A8-DB8E-4BAF-BCAC-A3AFE13B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D31E-659D-47C6-91A5-E0D64602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2EC-855B-4E97-B0EE-1533F8E4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1708-D291-4CA1-B522-81E514A6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22D7-DD20-4214-8634-079580A5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4F3AF-8CA9-444A-ADE5-0F479EFD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F117-0C3A-4295-A243-9D5AEA6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E81BF-E146-475F-9108-F23825B8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76B7-CE06-43C2-A82F-1FDE6D3D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3D26E-D86A-48CE-8307-E4A95FF2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68FE-EDBB-4BB7-91E6-9F941359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02E8-7215-404B-B009-F6E41E0F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F4C2-9DE7-4E6A-9B17-4970E0B8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CED-E0A0-41B1-9D1E-738D34A8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178C2-489D-43AC-BF5A-E8BF6869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E8785-607A-4835-85BA-E0205C72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F5856-3BDA-46B1-9AB3-F78D0519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AEFED-E82F-4E0F-831F-CB376C4A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5DA6-C2D4-4C0F-86BB-282F4CD3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3763-C993-4B28-81A0-A27B850C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1296C-F4CF-4CB0-9E5D-F85F5308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917E-FA87-480B-B4D0-04EA1C3D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6EEE-AE50-446F-8400-43FE1598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6C90A-2DE8-4F9C-928A-5828D639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D5C-2E97-44A7-9DD9-DB47E783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31E5B-6B88-4DEB-A770-C998A6E6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DE02D-AF8F-4EFA-A46C-DA93A544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F1AE1-ABE6-4AAE-9E2E-5D21E719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0D921-66C4-4088-B873-48DFD20D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8FE74-22EB-44F2-A9FC-1A9E4EEA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FD8B3-6F2C-40E5-98F7-2671AE67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06E84-E92C-4828-8B28-E7AA98A8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F8FF5-4B45-4EBB-9E16-42CCF36C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69413-C90C-4AF5-BF2E-BB850970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39A5-0DB7-40B4-AC2D-CBC7B764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FF3-8831-442B-A07A-3B2F64D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DCD19-D4D1-46AE-92F1-2BA57F54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37169-3F6F-4E3C-B28B-2334A1A3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67740-0171-41C3-9572-1D32DD33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E87C3-4011-4CA8-BD99-7D4E2C11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53490-634D-4668-9EB2-DF45871B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87E1D-407D-4ADB-BFED-22534131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EBC40-4AD5-4B50-A728-A990EFBB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C7135-C76B-4B96-BD31-69EC56F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E562B-F24F-4739-84D7-36DC54D8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B352D-9254-491D-B779-B429966A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E96-F2E6-4D76-8296-51CA2BFA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B701A-D6CB-4C7A-B551-06264FC4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5D033-294C-4682-B236-3D728E81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FE4A0-E0F4-49A5-86D7-D96343A1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BC584-4F91-4F63-93DA-37DC1359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15AFC-CBCE-470B-BF6C-E3AE6BB4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FEC83-249C-4B31-9B9E-F9C1F81D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2F434-2546-4895-926B-B2F354CB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C8BCB-5F36-4CDF-9134-CDA69A3D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0F412-0A58-4CC4-A8FF-A7ED1ABC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AD046-7D47-4109-8147-B1A100B7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A73-5DC7-4E3D-9375-8B2C95B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21569-CFCA-4651-8125-CDB391C8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F8241-F05D-4AEE-B4B8-F156C84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D421-C774-44BF-800B-444C4FFA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7A17A-E65C-4DCB-8AA3-58717D23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92036-9240-4B44-8D2D-E7A394DB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899F2-6DAF-4FE4-9251-BB1403D1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512BE-5BC6-42E7-AAE4-61CC86D1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F96CA-24F0-477C-8A03-54C07D3D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AE1CE-6E15-46EF-A902-526DD20D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542C1-B16F-43F3-B6A2-CD432483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66B-B900-4EFE-B699-3E74B4B5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E9E10-2393-46B0-8BB9-0C24817C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C4A0A-7876-472E-9604-A86CF4EA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55D50-791D-4C9B-A04C-82E444AF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445B6-86A5-4318-BA55-6627ABB7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EF629-1F6F-4C4B-85C9-2C4B9FDF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46482-974C-4D2A-B527-8CB98B25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BC6A5-0544-4E6E-895A-A0F0D9BF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477DA-B871-43D8-8CC7-19C1EEEB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9A89F-C222-4835-89EF-2C17340B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1CF7C-8EEB-4A52-8C72-0AF224E0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0CE3-67A4-4D07-83B9-658D4238A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37BE-B558-402A-BD9C-CB02DE43D1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F57F-C0E5-4507-906F-AD85D41D7A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25BA-C308-4FBE-950B-2E9C31C5C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86E9-781A-4AB1-944C-90D5404EDD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E096-6D5A-400A-A129-AA9544CCC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210E-B6D4-4D8F-BAF3-1491756069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DF47-B49A-40AD-BFCD-CB8CCD5064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9E9B-2E92-40A9-A9B8-7773751076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9470-5E04-411E-99CB-2F8BEF80C7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B0E5-7A77-48AD-ACC9-CB5C06CB2A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CEB5-FD5F-4BD8-957A-8431B2C6D7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94EA-51D0-4DA5-AC65-5FF5727C59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3464-9341-49DC-8E70-500D7C7957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A3C3-FEF5-4AEC-9BD4-E17FAA0885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5AF8-E0F4-4E15-A137-655DDC25F4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2B77-7771-47FB-858C-D24573826B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0D0E-5C76-427F-B315-FCAC405D99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4E84-AB2E-499F-855F-461FEE971E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A410-CE61-407C-9A89-CD2C16B0BE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0382-8ECB-4768-BE95-58812DE16D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1BDB-94D5-43F3-A638-5F6FC240F1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97A7-F4A6-49EF-B1B2-A7221E5EAC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C3B4-CE8C-4B03-83EB-3B833DCCE7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B54E-65DA-46D4-B92A-3B2A4C59D0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BDAC-7C58-4334-9ED2-1FD88E93A0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5D46-1AB2-49DE-9648-AAF1B9BB58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B7B7-B3C6-4340-99EC-3458B8509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DA41-3B13-4A2F-9031-F7FA1C639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9E72-68B5-42FF-9139-C7C996FCD4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96DE-4E03-4A97-A791-EB8DC326F8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AE9E-0065-4F56-9FA8-7D3CD670EE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40AF-CC1E-462B-874D-47FAF7339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F73D-583B-4927-9D5F-FBD40AFBD2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77EA-4114-4F21-AAB6-CD6132E89E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B154-565D-41FA-B6FB-E5D42FD480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3E3C-2FC5-4F2B-80B4-3A799D4EE8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D604-32D1-44C3-B8F7-C42B65454D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ED4D-D1FB-48EA-A366-AB1C20561C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A0D4-163F-487C-9C07-5D793B042C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714240" y="3357720"/>
            <a:ext cx="7872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857160" y="1467000"/>
            <a:ext cx="7429680" cy="39240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2"/>
          <a:stretch/>
        </p:blipFill>
        <p:spPr>
          <a:xfrm>
            <a:off x="1332000" y="1504800"/>
            <a:ext cx="718920" cy="4384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3"/>
          <a:stretch/>
        </p:blipFill>
        <p:spPr>
          <a:xfrm>
            <a:off x="1332000" y="2270160"/>
            <a:ext cx="71892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4"/>
          <a:stretch/>
        </p:blipFill>
        <p:spPr>
          <a:xfrm>
            <a:off x="1332000" y="3062160"/>
            <a:ext cx="718920" cy="438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"/>
          <p:cNvPicPr/>
          <p:nvPr/>
        </p:nvPicPr>
        <p:blipFill>
          <a:blip r:embed="rId5"/>
          <a:stretch/>
        </p:blipFill>
        <p:spPr>
          <a:xfrm>
            <a:off x="1332000" y="3860640"/>
            <a:ext cx="718920" cy="4384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6"/>
          <a:stretch/>
        </p:blipFill>
        <p:spPr>
          <a:xfrm>
            <a:off x="1332000" y="4719600"/>
            <a:ext cx="7189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065240" y="714240"/>
            <a:ext cx="7097760" cy="6072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2195640" y="4292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2268360" y="57276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471600" y="1295280"/>
            <a:ext cx="8200800" cy="42674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4932360" y="2184480"/>
            <a:ext cx="194328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4427640" y="2887560"/>
            <a:ext cx="194472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4"/>
          <a:stretch/>
        </p:blipFill>
        <p:spPr>
          <a:xfrm>
            <a:off x="3276720" y="3583080"/>
            <a:ext cx="194292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5"/>
          <a:stretch/>
        </p:blipFill>
        <p:spPr>
          <a:xfrm>
            <a:off x="5651640" y="4292640"/>
            <a:ext cx="309708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6"/>
          <a:stretch/>
        </p:blipFill>
        <p:spPr>
          <a:xfrm>
            <a:off x="1763640" y="4971960"/>
            <a:ext cx="194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557280" y="1300320"/>
            <a:ext cx="8029440" cy="4257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885960" y="1143000"/>
            <a:ext cx="7372080" cy="52862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3"/>
          <a:stretch/>
        </p:blipFill>
        <p:spPr>
          <a:xfrm>
            <a:off x="1332000" y="392760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861840" y="2500200"/>
            <a:ext cx="7420320" cy="18576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433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606600" y="752400"/>
            <a:ext cx="8037360" cy="6072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2381400" y="3695760"/>
            <a:ext cx="71892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2556000" y="5681520"/>
            <a:ext cx="720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766800" y="928800"/>
            <a:ext cx="7610400" cy="57718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2411280" y="1536840"/>
            <a:ext cx="72072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2771640" y="3562200"/>
            <a:ext cx="720720" cy="438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4"/>
          <a:stretch/>
        </p:blipFill>
        <p:spPr>
          <a:xfrm>
            <a:off x="2112840" y="5583240"/>
            <a:ext cx="720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Picture 2" descr=""/>
          <p:cNvPicPr/>
          <p:nvPr/>
        </p:nvPicPr>
        <p:blipFill>
          <a:blip r:embed="rId1"/>
          <a:stretch/>
        </p:blipFill>
        <p:spPr>
          <a:xfrm>
            <a:off x="509760" y="1119240"/>
            <a:ext cx="81244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5:01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